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17E-F72B-407B-A56F-58E07BB2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40F-B7C9-4B07-90E5-C77ED06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78B-BB72-4E52-827A-FC828849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646-6FC7-4611-BAD3-72D36F77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0F8-4A0E-4760-AE87-877B9BE4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BA1-5AA3-4D70-AAE6-F6DAD333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34A-37BD-40AE-8AFC-9FEF743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D8-4950-4EB0-AC64-FA9C53CA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BE5-7967-4373-AB4B-62BFDC1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468-4683-4CD0-B935-F6C7CCA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1D1-3458-411F-974E-B9C7FC2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E4D-C800-49E4-8850-36515EA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4840-E81D-4999-B25D-092876C2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 MacLaird discussed JTRS plans and the importance of the specifications we are building for many agencies and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Radio UML Profile and Facilities Mapping reviewed and revised submission moved to Feb ’04 for vote. Used meeting to work on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ed a new co-chair, Kevin Richar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12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erry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. Services and CCM presentations (RTESS)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 with Deployment &amp; Configuration F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RADIO Revised Submissi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RF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Reporting on SWRADIO Revised Submission Status and overview of M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12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erry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SWRADIO/2003-09-01 SWRADIO Revised Submission Statu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SWRADIO/2003-09-02 JTRS OMG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R Revised Submission (Updated PIM and PSM) and presentation Jan/Feb 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&amp; Configuration Issues Resolutions &amp; V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 Items for the London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12 Septemb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erry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Gerald Lee Bickle</cp:lastModifiedBy>
  <dcterms:modified xsi:type="dcterms:W3CDTF">2003-09-11T17:18:20Z</dcterms:modified>
  <cp:revision>71</cp:revision>
  <dc:subject/>
  <dc:title>{TF/SIG/WG/SC Name Here}</dc:title>
</cp:coreProperties>
</file>